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7DC-459D-4F36-8018-B1D88BA3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8CE-C61E-4278-B597-BFFA9BA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33A-B86C-4E09-9333-45BA04D4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B1C-48E3-4641-915E-BB75FB38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A639-56D8-4F27-9462-C492EB11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2501-4131-4B72-93A5-8FAF6CC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120A-E43F-4406-9B97-38E49357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0EE-5FAD-4F62-9476-A19FA15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13C9-AFEC-4B80-BA65-D82F602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106B-9F05-48FF-AFDB-01ACFDF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E8BE-9EB9-4650-BF85-ED76E52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BE7-5AB3-440E-A19B-F2BA6999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D1E1-92F9-4281-A073-276AC8F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D14-ECED-4947-9BDB-A819724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033D-652B-46FE-86D1-C2501F3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7A5-2923-4741-908B-4B85F0D7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356-D1E5-43A2-82BB-F4A805C0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6FE-0BF2-4B71-8446-221689B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7A7-24F0-4CD9-A309-B100720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BB9-687F-4C66-AE52-596E7A0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24E-D133-403C-A782-BFACD76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1A7-4878-447D-A245-9C1B683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F9E-FC13-43C1-88A3-CA7A4A37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0F4-0611-41F7-9F54-2E0AED5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639-D06C-47EF-AA12-3821AD90FF1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423D-D040-4B46-A831-10CA7F1B4D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2205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Meiryo"/>
              </a:rPr>
              <a:t>Maori Earl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Meg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&amp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AY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2:42:18Z</dcterms:created>
  <dc:creator>5d05</dc:creator>
  <dc:description/>
  <dc:language>en-US</dc:language>
  <cp:lastModifiedBy>5d05</cp:lastModifiedBy>
  <dcterms:modified xsi:type="dcterms:W3CDTF">2013-06-05T03:00:54Z</dcterms:modified>
  <cp:revision>2</cp:revision>
  <dc:subject/>
  <dc:title>                Early Maori</dc:title>
</cp:coreProperties>
</file>